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10.wmf" ContentType="image/x-wmf"/>
  <Override PartName="/ppt/media/image7.wmf" ContentType="image/x-wmf"/>
  <Override PartName="/ppt/media/image8.jpeg" ContentType="image/jpeg"/>
  <Override PartName="/ppt/media/image9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305D9-8D89-4A1B-A369-04B0E0A37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CF353-85D0-4EAA-AF17-24915D509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2D761-188F-4D56-839D-DEDA40D60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DDE07-A80E-45B8-9659-E4C8BC194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08899-0178-4FD1-B94D-06729E53D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9739C-7054-4338-891D-A6E79B738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D73C0-BFBA-4622-9844-634E753FB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E20DE-BC5B-459E-8D9D-1980AEB59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C3B34-DD68-48A9-8819-024DD051E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103C5-629D-4A4F-934D-8C4F31A71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4F2F8-0A68-41C2-8EB4-3808A3215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47176-522D-44AD-8274-24704752E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BAA53-D37D-40EA-AF25-2CFFE4DEB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CC63E-7C80-4621-BA60-93C65F725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A8756-9E5D-44FE-BAD1-A45CF916A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81CBE-5E76-4A13-960E-EB43F4F26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D447E-C01E-464B-B92C-86E30F515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E9F839-DE19-4D3F-8328-D1CFF0255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6ED7C5-C644-4738-90C0-C1824FE83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2FE4C3-92E8-4123-A4BD-7AA3B63ED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BDADB2-3C2D-4FAA-B853-6F817D702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04164E-0D8D-4E33-A6D1-B6226BBA5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307AA-4BF0-48D8-83BA-4176EF0FB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C288AD-A1C3-4D58-9B66-A95AF81E7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DB7168-358E-449F-9A52-B367F8822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316EB0-FD68-48DD-B6D6-AF2C2DCA9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A9C55B-6D0A-4748-A026-2943B6A92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6F8393-FF12-4199-8A9B-0DA94A453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2516DA-0AC7-4410-A190-E027B8115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015F8E-8984-47D2-BFE6-BFD9B7ED9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ADFA8E-4F01-460C-9DAF-2DE1E6535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B31B2F-D448-4B86-9E8C-AFBF08900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86B984-FE8D-4764-B504-28EC73D3A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83BE6-2F60-47FB-BCFB-AA9D26DF1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0F8B58-59C8-4072-9BA8-890A1A446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BEAF29-3004-4201-B983-F275F9C96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EC1CCB-2849-43EA-AA4C-EF1847F51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7D586D-6333-4824-93F6-F041CF975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ED4A00-8B78-4BE1-BEF1-CD77E9F3E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D3CAA3-EB80-4611-8A0F-392E7678C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9BABB8-95A6-425B-9623-4481CAE12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43B68F-6868-48B1-8574-CAF19CA7B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2570D0-7356-47AA-A84E-578FCD4FC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BAE4B-7B93-4C45-9C93-C742257D0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442F4-1F30-41CE-A4D8-B7CBF9DA5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2CB61-29A8-4B5D-BFEB-E85A197D9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9114B-320D-4E02-8BA1-D7B439985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13771-E7F5-4B43-BFAD-337F16C55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BAEE8-0D85-40EB-AF1F-ED4A88CD0F8E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EAF9D-A024-44E9-B20A-8C21D47BC903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52872-DDF2-48FD-B4E2-7892A499FF39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34A46-DEB2-415F-9988-6F79107383AA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Rectangle 2" descr=""/>
          <p:cNvPicPr/>
          <p:nvPr/>
        </p:nvPicPr>
        <p:blipFill>
          <a:blip r:embed="rId1"/>
          <a:stretch/>
        </p:blipFill>
        <p:spPr>
          <a:xfrm>
            <a:off x="1163520" y="1395360"/>
            <a:ext cx="7785360" cy="115884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4"/>
          <p:cNvSpPr/>
          <p:nvPr/>
        </p:nvSpPr>
        <p:spPr>
          <a:xfrm>
            <a:off x="590400" y="1035000"/>
            <a:ext cx="7975800" cy="5308560"/>
          </a:xfrm>
          <a:prstGeom prst="rect">
            <a:avLst/>
          </a:prstGeom>
          <a:solidFill>
            <a:srgbClr val="99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" name="Rectangle 15"/>
          <p:cNvSpPr/>
          <p:nvPr/>
        </p:nvSpPr>
        <p:spPr>
          <a:xfrm>
            <a:off x="990720" y="469800"/>
            <a:ext cx="749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17b"/>
                </a:solidFill>
                <a:latin typeface="Times New Roman"/>
              </a:rPr>
              <a:t>What Should a Business Plan Contai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Rectangle 16"/>
          <p:cNvSpPr/>
          <p:nvPr/>
        </p:nvSpPr>
        <p:spPr>
          <a:xfrm>
            <a:off x="711360" y="1206360"/>
            <a:ext cx="7886520" cy="516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etter of Transmitta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2.  Title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3.  Table of Cont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4.  Executive Summary and Fact Shee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5.  Body of the Pla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Company and Indust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Product/Service Offer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Analy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Marketing Pl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Development Pl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Production/Operations Pl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Management T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plementation Schedule and Risks Associated with the Ven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Financial Pl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6.  Appendic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Rectangle 17"/>
          <p:cNvSpPr/>
          <p:nvPr/>
        </p:nvSpPr>
        <p:spPr>
          <a:xfrm>
            <a:off x="5784480" y="6581880"/>
            <a:ext cx="2232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Rectangle 18"/>
          <p:cNvSpPr/>
          <p:nvPr/>
        </p:nvSpPr>
        <p:spPr>
          <a:xfrm>
            <a:off x="3354480" y="9216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35" name="Picture 19" descr="C:\Program Files\Microsoft Office\Clipart\Popular\wearhat.wmf"/>
          <p:cNvPicPr/>
          <p:nvPr/>
        </p:nvPicPr>
        <p:blipFill>
          <a:blip r:embed="rId1"/>
          <a:stretch/>
        </p:blipFill>
        <p:spPr>
          <a:xfrm>
            <a:off x="5029200" y="1143000"/>
            <a:ext cx="33066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5dfd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5dfd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9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5dfd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5dfd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5dfd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2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5dfd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2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5dfd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2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2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3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2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5dfd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2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2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2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5dfd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23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3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2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5dfd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23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3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2">
                                      <p:txEl>
                                        <p:pRg st="10" end="1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5dfd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23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3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6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2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5dfd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3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3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6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2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5dfd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3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23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7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2">
                                      <p:txEl>
                                        <p:pRg st="13" end="1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5dfd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77" dur="1" fill="hold"/>
                                  <p:tgtEl>
                                    <p:spTgt spid="232">
                                      <p:txEl>
                                        <p:pRg st="14" end="1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5dfd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2"/>
          <p:cNvSpPr/>
          <p:nvPr/>
        </p:nvSpPr>
        <p:spPr>
          <a:xfrm>
            <a:off x="2305080" y="439560"/>
            <a:ext cx="43804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Typical Business Pl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37" name="Group 3"/>
          <p:cNvGrpSpPr/>
          <p:nvPr/>
        </p:nvGrpSpPr>
        <p:grpSpPr>
          <a:xfrm>
            <a:off x="585720" y="1103400"/>
            <a:ext cx="7586640" cy="5176800"/>
            <a:chOff x="585720" y="1103400"/>
            <a:chExt cx="7586640" cy="5176800"/>
          </a:xfrm>
        </p:grpSpPr>
        <p:sp>
          <p:nvSpPr>
            <p:cNvPr id="238" name="AutoShape 4"/>
            <p:cNvSpPr/>
            <p:nvPr/>
          </p:nvSpPr>
          <p:spPr>
            <a:xfrm>
              <a:off x="3841920" y="4844880"/>
              <a:ext cx="4330440" cy="1435320"/>
            </a:xfrm>
            <a:prstGeom prst="roundRect">
              <a:avLst>
                <a:gd name="adj" fmla="val 12495"/>
              </a:avLst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9" name="AutoShape 5"/>
            <p:cNvSpPr/>
            <p:nvPr/>
          </p:nvSpPr>
          <p:spPr>
            <a:xfrm>
              <a:off x="3841920" y="3981600"/>
              <a:ext cx="4330440" cy="622080"/>
            </a:xfrm>
            <a:prstGeom prst="roundRect">
              <a:avLst>
                <a:gd name="adj" fmla="val 12495"/>
              </a:avLst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0" name="AutoShape 6"/>
            <p:cNvSpPr/>
            <p:nvPr/>
          </p:nvSpPr>
          <p:spPr>
            <a:xfrm>
              <a:off x="3841920" y="2622600"/>
              <a:ext cx="4330440" cy="1092240"/>
            </a:xfrm>
            <a:prstGeom prst="roundRect">
              <a:avLst>
                <a:gd name="adj" fmla="val 12495"/>
              </a:avLst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1" name="AutoShape 7"/>
            <p:cNvSpPr/>
            <p:nvPr/>
          </p:nvSpPr>
          <p:spPr>
            <a:xfrm>
              <a:off x="3841920" y="1536840"/>
              <a:ext cx="4330440" cy="812520"/>
            </a:xfrm>
            <a:prstGeom prst="roundRect">
              <a:avLst>
                <a:gd name="adj" fmla="val 12495"/>
              </a:avLst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42" name="Group 8"/>
            <p:cNvGrpSpPr/>
            <p:nvPr/>
          </p:nvGrpSpPr>
          <p:grpSpPr>
            <a:xfrm>
              <a:off x="687240" y="1504800"/>
              <a:ext cx="2298960" cy="876600"/>
              <a:chOff x="687240" y="1504800"/>
              <a:chExt cx="2298960" cy="876600"/>
            </a:xfrm>
          </p:grpSpPr>
          <p:sp>
            <p:nvSpPr>
              <p:cNvPr id="243" name="Oval 9"/>
              <p:cNvSpPr/>
              <p:nvPr/>
            </p:nvSpPr>
            <p:spPr>
              <a:xfrm>
                <a:off x="687240" y="1504800"/>
                <a:ext cx="2298960" cy="876600"/>
              </a:xfrm>
              <a:prstGeom prst="ellipse">
                <a:avLst/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4" name="Rectangle 10"/>
              <p:cNvSpPr/>
              <p:nvPr/>
            </p:nvSpPr>
            <p:spPr>
              <a:xfrm>
                <a:off x="765720" y="1652760"/>
                <a:ext cx="2142000" cy="57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1.</a:t>
                </a: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Letter of Transmittal</a:t>
                </a: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45" name="Group 11"/>
            <p:cNvGrpSpPr/>
            <p:nvPr/>
          </p:nvGrpSpPr>
          <p:grpSpPr>
            <a:xfrm>
              <a:off x="687240" y="2666880"/>
              <a:ext cx="2298960" cy="876600"/>
              <a:chOff x="687240" y="2666880"/>
              <a:chExt cx="2298960" cy="876600"/>
            </a:xfrm>
          </p:grpSpPr>
          <p:sp>
            <p:nvSpPr>
              <p:cNvPr id="246" name="Oval 12"/>
              <p:cNvSpPr/>
              <p:nvPr/>
            </p:nvSpPr>
            <p:spPr>
              <a:xfrm>
                <a:off x="687240" y="2666880"/>
                <a:ext cx="2298960" cy="876600"/>
              </a:xfrm>
              <a:prstGeom prst="ellipse">
                <a:avLst/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7" name="Rectangle 13"/>
              <p:cNvSpPr/>
              <p:nvPr/>
            </p:nvSpPr>
            <p:spPr>
              <a:xfrm>
                <a:off x="1264680" y="2814480"/>
                <a:ext cx="1142280" cy="57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2.</a:t>
                </a: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Title Page</a:t>
                </a: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48" name="Group 14"/>
            <p:cNvGrpSpPr/>
            <p:nvPr/>
          </p:nvGrpSpPr>
          <p:grpSpPr>
            <a:xfrm>
              <a:off x="687240" y="3854520"/>
              <a:ext cx="2298960" cy="876240"/>
              <a:chOff x="687240" y="3854520"/>
              <a:chExt cx="2298960" cy="876240"/>
            </a:xfrm>
          </p:grpSpPr>
          <p:sp>
            <p:nvSpPr>
              <p:cNvPr id="249" name="Oval 15"/>
              <p:cNvSpPr/>
              <p:nvPr/>
            </p:nvSpPr>
            <p:spPr>
              <a:xfrm>
                <a:off x="687240" y="3854520"/>
                <a:ext cx="2298960" cy="876240"/>
              </a:xfrm>
              <a:prstGeom prst="ellipse">
                <a:avLst/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0" name="Rectangle 16"/>
              <p:cNvSpPr/>
              <p:nvPr/>
            </p:nvSpPr>
            <p:spPr>
              <a:xfrm>
                <a:off x="890640" y="4002120"/>
                <a:ext cx="1893600" cy="57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3.</a:t>
                </a: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Table of Contents</a:t>
                </a: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51" name="Group 17"/>
            <p:cNvGrpSpPr/>
            <p:nvPr/>
          </p:nvGrpSpPr>
          <p:grpSpPr>
            <a:xfrm>
              <a:off x="687240" y="5118120"/>
              <a:ext cx="2298960" cy="876240"/>
              <a:chOff x="687240" y="5118120"/>
              <a:chExt cx="2298960" cy="876240"/>
            </a:xfrm>
          </p:grpSpPr>
          <p:sp>
            <p:nvSpPr>
              <p:cNvPr id="252" name="Oval 18"/>
              <p:cNvSpPr/>
              <p:nvPr/>
            </p:nvSpPr>
            <p:spPr>
              <a:xfrm>
                <a:off x="687240" y="5118120"/>
                <a:ext cx="2298960" cy="876240"/>
              </a:xfrm>
              <a:prstGeom prst="ellipse">
                <a:avLst/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3" name="Rectangle 19"/>
              <p:cNvSpPr/>
              <p:nvPr/>
            </p:nvSpPr>
            <p:spPr>
              <a:xfrm>
                <a:off x="780840" y="5143680"/>
                <a:ext cx="2111400" cy="82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4.</a:t>
                </a: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Executive Summary</a:t>
                </a: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and Fact Sheet</a:t>
                </a: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54" name="Rectangle 20"/>
            <p:cNvSpPr/>
            <p:nvPr/>
          </p:nvSpPr>
          <p:spPr>
            <a:xfrm>
              <a:off x="3835440" y="1684440"/>
              <a:ext cx="416556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ntroduce your business plan to the reader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Outline the major features that may be of interest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5" name="Rectangle 21"/>
            <p:cNvSpPr/>
            <p:nvPr/>
          </p:nvSpPr>
          <p:spPr>
            <a:xfrm>
              <a:off x="3835440" y="2722680"/>
              <a:ext cx="4232160" cy="94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rovide identifying information about you and your proposed business. Name, address and contact numbers for the business as well as key company contacts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6" name="Rectangle 22"/>
            <p:cNvSpPr/>
            <p:nvPr/>
          </p:nvSpPr>
          <p:spPr>
            <a:xfrm>
              <a:off x="3835440" y="4033800"/>
              <a:ext cx="397656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list of the major headings and sub-headings contained in your plan.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7" name="Rectangle 23"/>
            <p:cNvSpPr/>
            <p:nvPr/>
          </p:nvSpPr>
          <p:spPr>
            <a:xfrm>
              <a:off x="3835440" y="4871880"/>
              <a:ext cx="4002120" cy="137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1-2 page summary of the most important points in your plan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ay be the most important part of your business plan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Your Fact Sheet summarizes the basic information that relates to the venture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8" name="Rectangle 24"/>
            <p:cNvSpPr/>
            <p:nvPr/>
          </p:nvSpPr>
          <p:spPr>
            <a:xfrm>
              <a:off x="585720" y="1103400"/>
              <a:ext cx="25030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Business Plan Contents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9" name="Line 25"/>
            <p:cNvSpPr/>
            <p:nvPr/>
          </p:nvSpPr>
          <p:spPr>
            <a:xfrm>
              <a:off x="3048120" y="194328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0" name="Line 26"/>
            <p:cNvSpPr/>
            <p:nvPr/>
          </p:nvSpPr>
          <p:spPr>
            <a:xfrm>
              <a:off x="3048120" y="555624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1" name="Line 27"/>
            <p:cNvSpPr/>
            <p:nvPr/>
          </p:nvSpPr>
          <p:spPr>
            <a:xfrm>
              <a:off x="3048120" y="429264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2" name="Line 28"/>
            <p:cNvSpPr/>
            <p:nvPr/>
          </p:nvSpPr>
          <p:spPr>
            <a:xfrm>
              <a:off x="3048120" y="310500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63" name="Rectangle 29"/>
          <p:cNvSpPr/>
          <p:nvPr/>
        </p:nvSpPr>
        <p:spPr>
          <a:xfrm>
            <a:off x="7818120" y="6281640"/>
            <a:ext cx="8830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ontinued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4" name="Rectangle 30"/>
          <p:cNvSpPr/>
          <p:nvPr/>
        </p:nvSpPr>
        <p:spPr>
          <a:xfrm>
            <a:off x="3244680" y="9828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2"/>
          <p:cNvSpPr/>
          <p:nvPr/>
        </p:nvSpPr>
        <p:spPr>
          <a:xfrm>
            <a:off x="1315080" y="533520"/>
            <a:ext cx="65174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Typical Business Plan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66" name="Group 3"/>
          <p:cNvGrpSpPr/>
          <p:nvPr/>
        </p:nvGrpSpPr>
        <p:grpSpPr>
          <a:xfrm>
            <a:off x="716040" y="1536840"/>
            <a:ext cx="2298600" cy="876240"/>
            <a:chOff x="716040" y="1536840"/>
            <a:chExt cx="2298600" cy="876240"/>
          </a:xfrm>
        </p:grpSpPr>
        <p:sp>
          <p:nvSpPr>
            <p:cNvPr id="267" name="Oval 4"/>
            <p:cNvSpPr/>
            <p:nvPr/>
          </p:nvSpPr>
          <p:spPr>
            <a:xfrm>
              <a:off x="716040" y="1536840"/>
              <a:ext cx="2298600" cy="876240"/>
            </a:xfrm>
            <a:prstGeom prst="ellipse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8" name="Rectangle 5"/>
            <p:cNvSpPr/>
            <p:nvPr/>
          </p:nvSpPr>
          <p:spPr>
            <a:xfrm>
              <a:off x="982080" y="1684440"/>
              <a:ext cx="178236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5.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Body of the Plan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69" name="Group 6"/>
          <p:cNvGrpSpPr/>
          <p:nvPr/>
        </p:nvGrpSpPr>
        <p:grpSpPr>
          <a:xfrm>
            <a:off x="3886200" y="2209680"/>
            <a:ext cx="4336560" cy="1050840"/>
            <a:chOff x="3886200" y="2209680"/>
            <a:chExt cx="4336560" cy="1050840"/>
          </a:xfrm>
        </p:grpSpPr>
        <p:sp>
          <p:nvSpPr>
            <p:cNvPr id="270" name="AutoShape 7"/>
            <p:cNvSpPr/>
            <p:nvPr/>
          </p:nvSpPr>
          <p:spPr>
            <a:xfrm>
              <a:off x="3892320" y="2209680"/>
              <a:ext cx="4330440" cy="1050840"/>
            </a:xfrm>
            <a:prstGeom prst="roundRect">
              <a:avLst>
                <a:gd name="adj" fmla="val 12495"/>
              </a:avLst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1" name="Rectangle 8"/>
            <p:cNvSpPr/>
            <p:nvPr/>
          </p:nvSpPr>
          <p:spPr>
            <a:xfrm>
              <a:off x="3886200" y="2304360"/>
              <a:ext cx="4231800" cy="94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History and current situation of your company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Goals and objectives for the business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rincipal characteristics and trends in the industry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72" name="Group 9"/>
          <p:cNvGrpSpPr/>
          <p:nvPr/>
        </p:nvGrpSpPr>
        <p:grpSpPr>
          <a:xfrm>
            <a:off x="3848040" y="3416400"/>
            <a:ext cx="4337280" cy="753840"/>
            <a:chOff x="3848040" y="3416400"/>
            <a:chExt cx="4337280" cy="753840"/>
          </a:xfrm>
        </p:grpSpPr>
        <p:sp>
          <p:nvSpPr>
            <p:cNvPr id="273" name="AutoShape 10"/>
            <p:cNvSpPr/>
            <p:nvPr/>
          </p:nvSpPr>
          <p:spPr>
            <a:xfrm>
              <a:off x="3854520" y="3416400"/>
              <a:ext cx="4330800" cy="744480"/>
            </a:xfrm>
            <a:prstGeom prst="roundRect">
              <a:avLst>
                <a:gd name="adj" fmla="val 12495"/>
              </a:avLst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4" name="Rectangle 11"/>
            <p:cNvSpPr/>
            <p:nvPr/>
          </p:nvSpPr>
          <p:spPr>
            <a:xfrm>
              <a:off x="3848040" y="3438360"/>
              <a:ext cx="429264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etailed description of your product or service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Outline stage of development and proprietary position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75" name="Group 12"/>
          <p:cNvGrpSpPr/>
          <p:nvPr/>
        </p:nvGrpSpPr>
        <p:grpSpPr>
          <a:xfrm>
            <a:off x="3848040" y="4508640"/>
            <a:ext cx="4337280" cy="1454040"/>
            <a:chOff x="3848040" y="4508640"/>
            <a:chExt cx="4337280" cy="1454040"/>
          </a:xfrm>
        </p:grpSpPr>
        <p:sp>
          <p:nvSpPr>
            <p:cNvPr id="276" name="AutoShape 13"/>
            <p:cNvSpPr/>
            <p:nvPr/>
          </p:nvSpPr>
          <p:spPr>
            <a:xfrm>
              <a:off x="3854520" y="4508640"/>
              <a:ext cx="4330800" cy="1454040"/>
            </a:xfrm>
            <a:prstGeom prst="roundRect">
              <a:avLst>
                <a:gd name="adj" fmla="val 12495"/>
              </a:avLst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7" name="Rectangle 14"/>
            <p:cNvSpPr/>
            <p:nvPr/>
          </p:nvSpPr>
          <p:spPr>
            <a:xfrm>
              <a:off x="3848040" y="4522680"/>
              <a:ext cx="4330800" cy="137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escribe the profile of your principal target customers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ndicate current market size, trends, and seasonal patterns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ssess the nature of your competition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stimate your expected sales and market share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78" name="Rectangle 15"/>
          <p:cNvSpPr/>
          <p:nvPr/>
        </p:nvSpPr>
        <p:spPr>
          <a:xfrm>
            <a:off x="649440" y="2631960"/>
            <a:ext cx="2430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mpany and the Industry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" name="Rectangle 16"/>
          <p:cNvSpPr/>
          <p:nvPr/>
        </p:nvSpPr>
        <p:spPr>
          <a:xfrm>
            <a:off x="717480" y="3637080"/>
            <a:ext cx="2295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duct-Service Offerin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Rectangle 17"/>
          <p:cNvSpPr/>
          <p:nvPr/>
        </p:nvSpPr>
        <p:spPr>
          <a:xfrm>
            <a:off x="1094040" y="5083200"/>
            <a:ext cx="15429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ket Analysi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" name="Line 18"/>
          <p:cNvSpPr/>
          <p:nvPr/>
        </p:nvSpPr>
        <p:spPr>
          <a:xfrm>
            <a:off x="2971800" y="2784600"/>
            <a:ext cx="736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2" name="Line 19"/>
          <p:cNvSpPr/>
          <p:nvPr/>
        </p:nvSpPr>
        <p:spPr>
          <a:xfrm>
            <a:off x="2971800" y="3789360"/>
            <a:ext cx="736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" name="Line 20"/>
          <p:cNvSpPr/>
          <p:nvPr/>
        </p:nvSpPr>
        <p:spPr>
          <a:xfrm>
            <a:off x="2971800" y="5235480"/>
            <a:ext cx="736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" name="Rectangle 21"/>
          <p:cNvSpPr/>
          <p:nvPr/>
        </p:nvSpPr>
        <p:spPr>
          <a:xfrm>
            <a:off x="7484760" y="6243480"/>
            <a:ext cx="8830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ontinued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" name="Rectangle 22"/>
          <p:cNvSpPr/>
          <p:nvPr/>
        </p:nvSpPr>
        <p:spPr>
          <a:xfrm>
            <a:off x="5805000" y="6554880"/>
            <a:ext cx="2232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Rectangle 23"/>
          <p:cNvSpPr/>
          <p:nvPr/>
        </p:nvSpPr>
        <p:spPr>
          <a:xfrm>
            <a:off x="3276720" y="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2"/>
          <p:cNvSpPr/>
          <p:nvPr/>
        </p:nvSpPr>
        <p:spPr>
          <a:xfrm>
            <a:off x="1513440" y="534960"/>
            <a:ext cx="65174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Typical Business Plan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88" name="Group 3"/>
          <p:cNvGrpSpPr/>
          <p:nvPr/>
        </p:nvGrpSpPr>
        <p:grpSpPr>
          <a:xfrm>
            <a:off x="779400" y="1816200"/>
            <a:ext cx="7378920" cy="4190760"/>
            <a:chOff x="779400" y="1816200"/>
            <a:chExt cx="7378920" cy="4190760"/>
          </a:xfrm>
        </p:grpSpPr>
        <p:sp>
          <p:nvSpPr>
            <p:cNvPr id="289" name="AutoShape 4"/>
            <p:cNvSpPr/>
            <p:nvPr/>
          </p:nvSpPr>
          <p:spPr>
            <a:xfrm>
              <a:off x="3827520" y="1816200"/>
              <a:ext cx="4330800" cy="1092240"/>
            </a:xfrm>
            <a:prstGeom prst="roundRect">
              <a:avLst>
                <a:gd name="adj" fmla="val 12495"/>
              </a:avLst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5"/>
            <p:cNvSpPr/>
            <p:nvPr/>
          </p:nvSpPr>
          <p:spPr>
            <a:xfrm>
              <a:off x="3821040" y="1890720"/>
              <a:ext cx="4330800" cy="94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etail the marketing strategy you plan to use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escribe your marketing plan insofar as your sales strategy, advertising and promotion plans, pricing policy, and channels of distribution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6"/>
            <p:cNvSpPr/>
            <p:nvPr/>
          </p:nvSpPr>
          <p:spPr>
            <a:xfrm>
              <a:off x="917280" y="2209680"/>
              <a:ext cx="19087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Your Marketing Plan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Line 7"/>
            <p:cNvSpPr/>
            <p:nvPr/>
          </p:nvSpPr>
          <p:spPr>
            <a:xfrm>
              <a:off x="2932200" y="2362320"/>
              <a:ext cx="736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AutoShape 8"/>
            <p:cNvSpPr/>
            <p:nvPr/>
          </p:nvSpPr>
          <p:spPr>
            <a:xfrm>
              <a:off x="3827520" y="3365640"/>
              <a:ext cx="4330800" cy="1206360"/>
            </a:xfrm>
            <a:prstGeom prst="roundRect">
              <a:avLst>
                <a:gd name="adj" fmla="val 12495"/>
              </a:avLst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Rectangle 9"/>
            <p:cNvSpPr/>
            <p:nvPr/>
          </p:nvSpPr>
          <p:spPr>
            <a:xfrm>
              <a:off x="3821040" y="3390840"/>
              <a:ext cx="4330800" cy="115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Outline of the development status of your product and what is still required to get it to a market-ready state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re there regulatory, testing or other requirements that still have to be met?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Rectangle 10"/>
            <p:cNvSpPr/>
            <p:nvPr/>
          </p:nvSpPr>
          <p:spPr>
            <a:xfrm>
              <a:off x="779400" y="3816360"/>
              <a:ext cx="21844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Your Development Plan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Line 11"/>
            <p:cNvSpPr/>
            <p:nvPr/>
          </p:nvSpPr>
          <p:spPr>
            <a:xfrm>
              <a:off x="2932200" y="3968640"/>
              <a:ext cx="736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AutoShape 12"/>
            <p:cNvSpPr/>
            <p:nvPr/>
          </p:nvSpPr>
          <p:spPr>
            <a:xfrm>
              <a:off x="3827520" y="4991040"/>
              <a:ext cx="4330800" cy="1015920"/>
            </a:xfrm>
            <a:prstGeom prst="roundRect">
              <a:avLst>
                <a:gd name="adj" fmla="val 12495"/>
              </a:avLst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Rectangle 13"/>
            <p:cNvSpPr/>
            <p:nvPr/>
          </p:nvSpPr>
          <p:spPr>
            <a:xfrm>
              <a:off x="3821040" y="5027760"/>
              <a:ext cx="4330800" cy="94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Outline the operating side of your business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escribe your location, kind of facilities, space requirements, capital equipment needs, and labour requirements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Rectangle 14"/>
            <p:cNvSpPr/>
            <p:nvPr/>
          </p:nvSpPr>
          <p:spPr>
            <a:xfrm>
              <a:off x="813600" y="5133960"/>
              <a:ext cx="211428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Your 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roduction/Operations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lan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Line 15"/>
            <p:cNvSpPr/>
            <p:nvPr/>
          </p:nvSpPr>
          <p:spPr>
            <a:xfrm>
              <a:off x="2932200" y="5499000"/>
              <a:ext cx="736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01" name="Rectangle 16"/>
          <p:cNvSpPr/>
          <p:nvPr/>
        </p:nvSpPr>
        <p:spPr>
          <a:xfrm>
            <a:off x="7243560" y="5938920"/>
            <a:ext cx="8830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ontinued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2" name="Rectangle 17"/>
          <p:cNvSpPr/>
          <p:nvPr/>
        </p:nvSpPr>
        <p:spPr>
          <a:xfrm>
            <a:off x="3214800" y="149400"/>
            <a:ext cx="1839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" name="Rectangle 18"/>
          <p:cNvSpPr/>
          <p:nvPr/>
        </p:nvSpPr>
        <p:spPr>
          <a:xfrm>
            <a:off x="5779800" y="6541920"/>
            <a:ext cx="2232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04" name="Group 19"/>
          <p:cNvGrpSpPr/>
          <p:nvPr/>
        </p:nvGrpSpPr>
        <p:grpSpPr>
          <a:xfrm>
            <a:off x="519120" y="1219320"/>
            <a:ext cx="2298600" cy="876240"/>
            <a:chOff x="519120" y="1219320"/>
            <a:chExt cx="2298600" cy="876240"/>
          </a:xfrm>
        </p:grpSpPr>
        <p:sp>
          <p:nvSpPr>
            <p:cNvPr id="305" name="Oval 20"/>
            <p:cNvSpPr/>
            <p:nvPr/>
          </p:nvSpPr>
          <p:spPr>
            <a:xfrm>
              <a:off x="519120" y="1219320"/>
              <a:ext cx="2298600" cy="876240"/>
            </a:xfrm>
            <a:prstGeom prst="ellipse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1"/>
            <p:cNvSpPr/>
            <p:nvPr/>
          </p:nvSpPr>
          <p:spPr>
            <a:xfrm>
              <a:off x="778680" y="1244520"/>
              <a:ext cx="1782360" cy="82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5.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Body of the Plan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(Continued)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2"/>
          <p:cNvSpPr/>
          <p:nvPr/>
        </p:nvSpPr>
        <p:spPr>
          <a:xfrm>
            <a:off x="1447920" y="609480"/>
            <a:ext cx="69339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Typical Business Plan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Continued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Rectangle 3"/>
          <p:cNvSpPr/>
          <p:nvPr/>
        </p:nvSpPr>
        <p:spPr>
          <a:xfrm>
            <a:off x="7103880" y="5286240"/>
            <a:ext cx="8830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ontinued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Rectangle 4"/>
          <p:cNvSpPr/>
          <p:nvPr/>
        </p:nvSpPr>
        <p:spPr>
          <a:xfrm>
            <a:off x="5756040" y="6531120"/>
            <a:ext cx="2232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0" name="Rectangle 5"/>
          <p:cNvSpPr/>
          <p:nvPr/>
        </p:nvSpPr>
        <p:spPr>
          <a:xfrm>
            <a:off x="3222720" y="25092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11" name="Group 6"/>
          <p:cNvGrpSpPr/>
          <p:nvPr/>
        </p:nvGrpSpPr>
        <p:grpSpPr>
          <a:xfrm>
            <a:off x="968040" y="2298600"/>
            <a:ext cx="7268040" cy="2870280"/>
            <a:chOff x="968040" y="2298600"/>
            <a:chExt cx="7268040" cy="2870280"/>
          </a:xfrm>
        </p:grpSpPr>
        <p:sp>
          <p:nvSpPr>
            <p:cNvPr id="312" name="AutoShape 7"/>
            <p:cNvSpPr/>
            <p:nvPr/>
          </p:nvSpPr>
          <p:spPr>
            <a:xfrm>
              <a:off x="3905280" y="3962520"/>
              <a:ext cx="4330800" cy="1206360"/>
            </a:xfrm>
            <a:prstGeom prst="roundRect">
              <a:avLst>
                <a:gd name="adj" fmla="val 12495"/>
              </a:avLst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8"/>
            <p:cNvSpPr/>
            <p:nvPr/>
          </p:nvSpPr>
          <p:spPr>
            <a:xfrm>
              <a:off x="3898800" y="3987720"/>
              <a:ext cx="4330800" cy="115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resent an overall schedule indicating what needs to be done to launch your business and the timing required to bring it about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iscuss the major problems and risks that you will have to deal with as well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9"/>
            <p:cNvSpPr/>
            <p:nvPr/>
          </p:nvSpPr>
          <p:spPr>
            <a:xfrm>
              <a:off x="968040" y="4307040"/>
              <a:ext cx="200772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Your Implementation 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chedule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Line 10"/>
            <p:cNvSpPr/>
            <p:nvPr/>
          </p:nvSpPr>
          <p:spPr>
            <a:xfrm>
              <a:off x="3003480" y="4565520"/>
              <a:ext cx="736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AutoShape 11"/>
            <p:cNvSpPr/>
            <p:nvPr/>
          </p:nvSpPr>
          <p:spPr>
            <a:xfrm>
              <a:off x="3905280" y="2298600"/>
              <a:ext cx="4330800" cy="1206720"/>
            </a:xfrm>
            <a:prstGeom prst="roundRect">
              <a:avLst>
                <a:gd name="adj" fmla="val 12495"/>
              </a:avLst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12"/>
            <p:cNvSpPr/>
            <p:nvPr/>
          </p:nvSpPr>
          <p:spPr>
            <a:xfrm>
              <a:off x="3898800" y="2324160"/>
              <a:ext cx="4330800" cy="115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dentify your key management people, their responsibilities and their qualifications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ndicate the principal shareholders of the business, your principal advisors and the members of your Board of Directors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13"/>
            <p:cNvSpPr/>
            <p:nvPr/>
          </p:nvSpPr>
          <p:spPr>
            <a:xfrm>
              <a:off x="1106640" y="2643120"/>
              <a:ext cx="17272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Your Management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eam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Line 14"/>
            <p:cNvSpPr/>
            <p:nvPr/>
          </p:nvSpPr>
          <p:spPr>
            <a:xfrm>
              <a:off x="3003480" y="2901960"/>
              <a:ext cx="736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20" name="Group 15"/>
          <p:cNvGrpSpPr/>
          <p:nvPr/>
        </p:nvGrpSpPr>
        <p:grpSpPr>
          <a:xfrm>
            <a:off x="776160" y="1460520"/>
            <a:ext cx="2298960" cy="876240"/>
            <a:chOff x="776160" y="1460520"/>
            <a:chExt cx="2298960" cy="876240"/>
          </a:xfrm>
        </p:grpSpPr>
        <p:sp>
          <p:nvSpPr>
            <p:cNvPr id="321" name="Oval 16"/>
            <p:cNvSpPr/>
            <p:nvPr/>
          </p:nvSpPr>
          <p:spPr>
            <a:xfrm>
              <a:off x="776160" y="1460520"/>
              <a:ext cx="2298960" cy="876240"/>
            </a:xfrm>
            <a:prstGeom prst="ellipse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Rectangle 17"/>
            <p:cNvSpPr/>
            <p:nvPr/>
          </p:nvSpPr>
          <p:spPr>
            <a:xfrm>
              <a:off x="1036080" y="1486080"/>
              <a:ext cx="1782360" cy="82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5.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Body of the Plan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(Continued)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2"/>
          <p:cNvSpPr/>
          <p:nvPr/>
        </p:nvSpPr>
        <p:spPr>
          <a:xfrm>
            <a:off x="1600200" y="457200"/>
            <a:ext cx="68580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Typical Business Plan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24" name="Group 3"/>
          <p:cNvGrpSpPr/>
          <p:nvPr/>
        </p:nvGrpSpPr>
        <p:grpSpPr>
          <a:xfrm>
            <a:off x="3903840" y="2347920"/>
            <a:ext cx="4330440" cy="2933640"/>
            <a:chOff x="3903840" y="2347920"/>
            <a:chExt cx="4330440" cy="2933640"/>
          </a:xfrm>
        </p:grpSpPr>
        <p:sp>
          <p:nvSpPr>
            <p:cNvPr id="325" name="AutoShape 4"/>
            <p:cNvSpPr/>
            <p:nvPr/>
          </p:nvSpPr>
          <p:spPr>
            <a:xfrm>
              <a:off x="3903840" y="2347920"/>
              <a:ext cx="4330440" cy="2933640"/>
            </a:xfrm>
            <a:prstGeom prst="roundRect">
              <a:avLst>
                <a:gd name="adj" fmla="val 12495"/>
              </a:avLst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Rectangle 5"/>
            <p:cNvSpPr/>
            <p:nvPr/>
          </p:nvSpPr>
          <p:spPr>
            <a:xfrm>
              <a:off x="3948120" y="2409840"/>
              <a:ext cx="4232160" cy="286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ndicate the type and amount of financing you are looking for and how the funds will be used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Outline your proposed terms of investment, the potential return to the investor, and what benefit is being provided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rovide an overview of the current financial structure of your business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repare realistic financial projections that reflect the effect of financing. Include: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ash flow forecasts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ro forma profit and loss statements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ro forma balance sheet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Breakeven analysis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27" name="Line 6"/>
          <p:cNvSpPr/>
          <p:nvPr/>
        </p:nvSpPr>
        <p:spPr>
          <a:xfrm>
            <a:off x="3103560" y="3770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8" name="Rectangle 7"/>
          <p:cNvSpPr/>
          <p:nvPr/>
        </p:nvSpPr>
        <p:spPr>
          <a:xfrm>
            <a:off x="753120" y="3571920"/>
            <a:ext cx="2065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Financial Pla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9" name="Rectangle 8"/>
          <p:cNvSpPr/>
          <p:nvPr/>
        </p:nvSpPr>
        <p:spPr>
          <a:xfrm>
            <a:off x="5866920" y="6572160"/>
            <a:ext cx="2232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0" name="Rectangle 9"/>
          <p:cNvSpPr/>
          <p:nvPr/>
        </p:nvSpPr>
        <p:spPr>
          <a:xfrm>
            <a:off x="5091120" y="4284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1" name="Rectangle 10"/>
          <p:cNvSpPr/>
          <p:nvPr/>
        </p:nvSpPr>
        <p:spPr>
          <a:xfrm>
            <a:off x="6874560" y="5372280"/>
            <a:ext cx="8830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ontinued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32" name="Group 11"/>
          <p:cNvGrpSpPr/>
          <p:nvPr/>
        </p:nvGrpSpPr>
        <p:grpSpPr>
          <a:xfrm>
            <a:off x="534960" y="1927080"/>
            <a:ext cx="2298600" cy="876600"/>
            <a:chOff x="534960" y="1927080"/>
            <a:chExt cx="2298600" cy="876600"/>
          </a:xfrm>
        </p:grpSpPr>
        <p:sp>
          <p:nvSpPr>
            <p:cNvPr id="333" name="Oval 12"/>
            <p:cNvSpPr/>
            <p:nvPr/>
          </p:nvSpPr>
          <p:spPr>
            <a:xfrm>
              <a:off x="534960" y="1927080"/>
              <a:ext cx="2298600" cy="876600"/>
            </a:xfrm>
            <a:prstGeom prst="ellipse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13"/>
            <p:cNvSpPr/>
            <p:nvPr/>
          </p:nvSpPr>
          <p:spPr>
            <a:xfrm>
              <a:off x="794520" y="1952640"/>
              <a:ext cx="1782360" cy="82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5.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Body of the Plan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(Continued)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5" name="Group 2"/>
          <p:cNvGrpSpPr/>
          <p:nvPr/>
        </p:nvGrpSpPr>
        <p:grpSpPr>
          <a:xfrm>
            <a:off x="725400" y="3173400"/>
            <a:ext cx="2298960" cy="876240"/>
            <a:chOff x="725400" y="3173400"/>
            <a:chExt cx="2298960" cy="876240"/>
          </a:xfrm>
        </p:grpSpPr>
        <p:sp>
          <p:nvSpPr>
            <p:cNvPr id="336" name="Oval 3"/>
            <p:cNvSpPr/>
            <p:nvPr/>
          </p:nvSpPr>
          <p:spPr>
            <a:xfrm>
              <a:off x="725400" y="3173400"/>
              <a:ext cx="2298960" cy="876240"/>
            </a:xfrm>
            <a:prstGeom prst="ellipse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7" name="Rectangle 4"/>
            <p:cNvSpPr/>
            <p:nvPr/>
          </p:nvSpPr>
          <p:spPr>
            <a:xfrm>
              <a:off x="1209960" y="3321000"/>
              <a:ext cx="133272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6.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ppendices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38" name="Group 5"/>
          <p:cNvGrpSpPr/>
          <p:nvPr/>
        </p:nvGrpSpPr>
        <p:grpSpPr>
          <a:xfrm>
            <a:off x="3886200" y="2438280"/>
            <a:ext cx="4330800" cy="2386080"/>
            <a:chOff x="3886200" y="2438280"/>
            <a:chExt cx="4330800" cy="2386080"/>
          </a:xfrm>
        </p:grpSpPr>
        <p:sp>
          <p:nvSpPr>
            <p:cNvPr id="339" name="AutoShape 6"/>
            <p:cNvSpPr/>
            <p:nvPr/>
          </p:nvSpPr>
          <p:spPr>
            <a:xfrm>
              <a:off x="3886200" y="2438280"/>
              <a:ext cx="4330800" cy="2386080"/>
            </a:xfrm>
            <a:prstGeom prst="roundRect">
              <a:avLst>
                <a:gd name="adj" fmla="val 12495"/>
              </a:avLst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0" name="Rectangle 7"/>
            <p:cNvSpPr/>
            <p:nvPr/>
          </p:nvSpPr>
          <p:spPr>
            <a:xfrm>
              <a:off x="3905280" y="2498760"/>
              <a:ext cx="4002120" cy="20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upporting material for your plan including: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etailed resumes of the management team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roduct literature and photographs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ames of possible customers and suppliers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onsulting reports and market surveys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opies of legal documents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ublicity material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Letters of reference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41" name="Line 8"/>
          <p:cNvSpPr/>
          <p:nvPr/>
        </p:nvSpPr>
        <p:spPr>
          <a:xfrm>
            <a:off x="3067200" y="361152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Rectangle 9"/>
          <p:cNvSpPr/>
          <p:nvPr/>
        </p:nvSpPr>
        <p:spPr>
          <a:xfrm>
            <a:off x="1523880" y="747720"/>
            <a:ext cx="71629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Typical Business Plan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3" name="Rectangle 10"/>
          <p:cNvSpPr/>
          <p:nvPr/>
        </p:nvSpPr>
        <p:spPr>
          <a:xfrm>
            <a:off x="3451320" y="12384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4" name="Rectangle 11"/>
          <p:cNvSpPr/>
          <p:nvPr/>
        </p:nvSpPr>
        <p:spPr>
          <a:xfrm>
            <a:off x="5805000" y="6529320"/>
            <a:ext cx="2232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57360" y="380880"/>
            <a:ext cx="8486640" cy="601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4617b"/>
                </a:solidFill>
                <a:latin typeface="Calibri"/>
              </a:rPr>
              <a:t>Tips for Developing Your Business Plan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onstantia"/>
              </a:rPr>
              <a:t>Business planning involves a lot of work. Be prepared to spend weeks developing your plan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onstantia"/>
              </a:rPr>
              <a:t>Work on sections at a tim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onstantia"/>
              </a:rPr>
              <a:t>Be brief but complet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onstantia"/>
              </a:rPr>
              <a:t>Focus on your intended reade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onstantia"/>
              </a:rPr>
              <a:t>Use layman’s term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onstantia"/>
              </a:rPr>
              <a:t>Be realistic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onstantia"/>
              </a:rPr>
              <a:t>Discuss the risks associated with the busines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onstantia"/>
              </a:rPr>
              <a:t>back up your statements</a:t>
            </a:r>
            <a:r>
              <a:rPr b="0" lang="en-AU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AU" sz="2400" spc="-1" strike="noStrike">
                <a:solidFill>
                  <a:srgbClr val="000000"/>
                </a:solidFill>
                <a:latin typeface="Constantia"/>
              </a:rPr>
              <a:t>with background data and market information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47" name="Object 1024" descr=""/>
          <p:cNvPicPr/>
          <p:nvPr/>
        </p:nvPicPr>
        <p:blipFill>
          <a:blip r:embed="rId1"/>
          <a:stretch/>
        </p:blipFill>
        <p:spPr>
          <a:xfrm>
            <a:off x="6553080" y="2971800"/>
            <a:ext cx="218124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2"/>
          <p:cNvSpPr/>
          <p:nvPr/>
        </p:nvSpPr>
        <p:spPr>
          <a:xfrm>
            <a:off x="60948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Times New Roman"/>
              </a:rPr>
              <a:t>The Components of Successful Entrepreneurial Ven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" name="Group 3"/>
          <p:cNvGrpSpPr/>
          <p:nvPr/>
        </p:nvGrpSpPr>
        <p:grpSpPr>
          <a:xfrm>
            <a:off x="304920" y="1752480"/>
            <a:ext cx="8838720" cy="4228920"/>
            <a:chOff x="304920" y="1752480"/>
            <a:chExt cx="8838720" cy="4228920"/>
          </a:xfrm>
        </p:grpSpPr>
        <p:sp>
          <p:nvSpPr>
            <p:cNvPr id="199" name="Rectangle 4"/>
            <p:cNvSpPr/>
            <p:nvPr/>
          </p:nvSpPr>
          <p:spPr>
            <a:xfrm>
              <a:off x="3905280" y="5410080"/>
              <a:ext cx="1561680" cy="571320"/>
            </a:xfrm>
            <a:prstGeom prst="rect">
              <a:avLst/>
            </a:prstGeom>
            <a:solidFill>
              <a:srgbClr val="cc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0" name="Rectangle 5"/>
            <p:cNvSpPr/>
            <p:nvPr/>
          </p:nvSpPr>
          <p:spPr>
            <a:xfrm>
              <a:off x="7410240" y="3429000"/>
              <a:ext cx="1561680" cy="571320"/>
            </a:xfrm>
            <a:prstGeom prst="rect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" name="Rectangle 6"/>
            <p:cNvSpPr/>
            <p:nvPr/>
          </p:nvSpPr>
          <p:spPr>
            <a:xfrm>
              <a:off x="6191280" y="1752480"/>
              <a:ext cx="1790280" cy="571320"/>
            </a:xfrm>
            <a:prstGeom prst="rect">
              <a:avLst/>
            </a:prstGeom>
            <a:solidFill>
              <a:srgbClr val="ffcccc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" name="Rectangle 7"/>
            <p:cNvSpPr/>
            <p:nvPr/>
          </p:nvSpPr>
          <p:spPr>
            <a:xfrm>
              <a:off x="399960" y="3504960"/>
              <a:ext cx="1790280" cy="571680"/>
            </a:xfrm>
            <a:prstGeom prst="rect">
              <a:avLst/>
            </a:prstGeom>
            <a:solidFill>
              <a:srgbClr val="ccffcc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3" name="Rectangle 8"/>
            <p:cNvSpPr/>
            <p:nvPr/>
          </p:nvSpPr>
          <p:spPr>
            <a:xfrm>
              <a:off x="1009440" y="1828800"/>
              <a:ext cx="2400120" cy="571320"/>
            </a:xfrm>
            <a:prstGeom prst="rect">
              <a:avLst/>
            </a:prstGeom>
            <a:solidFill>
              <a:srgbClr val="ffffcc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4" name="Rectangle 9"/>
            <p:cNvSpPr/>
            <p:nvPr/>
          </p:nvSpPr>
          <p:spPr>
            <a:xfrm>
              <a:off x="2824200" y="2881080"/>
              <a:ext cx="3647520" cy="1590840"/>
            </a:xfrm>
            <a:prstGeom prst="rect">
              <a:avLst/>
            </a:prstGeom>
            <a:solidFill>
              <a:srgbClr val="99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usiness Plan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5" name="Rectangle 10"/>
            <p:cNvSpPr/>
            <p:nvPr/>
          </p:nvSpPr>
          <p:spPr>
            <a:xfrm>
              <a:off x="1066680" y="1885680"/>
              <a:ext cx="24379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he Entrepreneur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6" name="Rectangle 11"/>
            <p:cNvSpPr/>
            <p:nvPr/>
          </p:nvSpPr>
          <p:spPr>
            <a:xfrm>
              <a:off x="5715000" y="1809720"/>
              <a:ext cx="28951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Opportunity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7" name="Rectangle 12"/>
            <p:cNvSpPr/>
            <p:nvPr/>
          </p:nvSpPr>
          <p:spPr>
            <a:xfrm>
              <a:off x="7238880" y="3485880"/>
              <a:ext cx="19047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esources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" name="Rectangle 13"/>
            <p:cNvSpPr/>
            <p:nvPr/>
          </p:nvSpPr>
          <p:spPr>
            <a:xfrm>
              <a:off x="304920" y="3562200"/>
              <a:ext cx="19810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Organization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" name="Rectangle 14"/>
            <p:cNvSpPr/>
            <p:nvPr/>
          </p:nvSpPr>
          <p:spPr>
            <a:xfrm>
              <a:off x="3504960" y="5467320"/>
              <a:ext cx="22856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trategy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" name="Line 15"/>
            <p:cNvSpPr/>
            <p:nvPr/>
          </p:nvSpPr>
          <p:spPr>
            <a:xfrm>
              <a:off x="2514600" y="2419200"/>
              <a:ext cx="761400" cy="45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1" name="Line 16"/>
            <p:cNvSpPr/>
            <p:nvPr/>
          </p:nvSpPr>
          <p:spPr>
            <a:xfrm flipH="1">
              <a:off x="5715000" y="2342880"/>
              <a:ext cx="685440" cy="45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2" name="Line 17"/>
            <p:cNvSpPr/>
            <p:nvPr/>
          </p:nvSpPr>
          <p:spPr>
            <a:xfrm flipH="1">
              <a:off x="6476400" y="3714480"/>
              <a:ext cx="914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3" name="Line 18"/>
            <p:cNvSpPr/>
            <p:nvPr/>
          </p:nvSpPr>
          <p:spPr>
            <a:xfrm flipV="1">
              <a:off x="4647960" y="4476600"/>
              <a:ext cx="0" cy="914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4" name="Line 19"/>
            <p:cNvSpPr/>
            <p:nvPr/>
          </p:nvSpPr>
          <p:spPr>
            <a:xfrm>
              <a:off x="2209680" y="3790800"/>
              <a:ext cx="533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2"/>
          <p:cNvSpPr/>
          <p:nvPr/>
        </p:nvSpPr>
        <p:spPr>
          <a:xfrm>
            <a:off x="1371600" y="533520"/>
            <a:ext cx="7543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4617b"/>
                </a:solidFill>
                <a:latin typeface="Times New Roman"/>
              </a:rPr>
              <a:t>Business Plan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Rectangle 3"/>
          <p:cNvSpPr/>
          <p:nvPr/>
        </p:nvSpPr>
        <p:spPr>
          <a:xfrm>
            <a:off x="1371600" y="1905120"/>
            <a:ext cx="7396200" cy="20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“</a:t>
            </a:r>
            <a:r>
              <a:rPr b="1" lang="en-US" sz="3200" spc="-1" strike="noStrike">
                <a:solidFill>
                  <a:srgbClr val="114ffb"/>
                </a:solidFill>
                <a:latin typeface="Times New Roman"/>
              </a:rPr>
              <a:t>Business Pla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” is a “</a:t>
            </a:r>
            <a:r>
              <a:rPr b="1" lang="en-US" sz="3200" spc="-1" strike="noStrike">
                <a:solidFill>
                  <a:srgbClr val="114ffb"/>
                </a:solidFill>
                <a:latin typeface="Times New Roman"/>
              </a:rPr>
              <a:t>Selling Docume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” that conveys the excitement and promise of your business to any potential backers and stakeholders 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17" name="Object 4"/>
          <p:cNvGraphicFramePr/>
          <p:nvPr/>
        </p:nvGraphicFramePr>
        <p:xfrm>
          <a:off x="2895480" y="4114800"/>
          <a:ext cx="3454560" cy="2463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5480" y="4114800"/>
                    <a:ext cx="3454560" cy="246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2" descr="C:\WPWIN\Busplan\sherman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2"/>
          <p:cNvSpPr/>
          <p:nvPr/>
        </p:nvSpPr>
        <p:spPr>
          <a:xfrm>
            <a:off x="1295280" y="228600"/>
            <a:ext cx="7543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4617b"/>
                </a:solidFill>
                <a:latin typeface="Times New Roman"/>
              </a:rPr>
              <a:t>Reasons for Writing a Business Plan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Rectangle 3"/>
          <p:cNvSpPr/>
          <p:nvPr/>
        </p:nvSpPr>
        <p:spPr>
          <a:xfrm>
            <a:off x="1319040" y="1886040"/>
            <a:ext cx="7317000" cy="46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4617b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sell yourself on the busi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4617b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obtain bank finan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4617b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obtain investment fu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4617b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establish strategic allia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4617b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obtain initial contra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4617b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attract key employe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4617b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motivate and focus your management t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5dfd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" dur="500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5dfd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5dfd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" dur="500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1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5dfd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" dur="500"/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1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5dfd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" dur="500"/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1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5dfd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6" dur="1" fill="hold"/>
                                  <p:tgtEl>
                                    <p:spTgt spid="221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5dfd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2"/>
          <p:cNvSpPr/>
          <p:nvPr/>
        </p:nvSpPr>
        <p:spPr>
          <a:xfrm>
            <a:off x="1523880" y="457200"/>
            <a:ext cx="6705720" cy="10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4617b"/>
                </a:solidFill>
                <a:latin typeface="Times New Roman"/>
              </a:rPr>
              <a:t>Types of Business Plan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" name="Rectangle 3"/>
          <p:cNvSpPr/>
          <p:nvPr/>
        </p:nvSpPr>
        <p:spPr>
          <a:xfrm>
            <a:off x="831960" y="2133720"/>
            <a:ext cx="7169040" cy="39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en-US" sz="3200" spc="-1" strike="noStrike">
                <a:solidFill>
                  <a:srgbClr val="114ffb"/>
                </a:solidFill>
                <a:latin typeface="Times New Roman"/>
              </a:rPr>
              <a:t>The Summary Business Plan: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 p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fo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nk Loan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festyle busi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gauge initial investor inter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2"/>
          <p:cNvSpPr/>
          <p:nvPr/>
        </p:nvSpPr>
        <p:spPr>
          <a:xfrm>
            <a:off x="1295280" y="533520"/>
            <a:ext cx="7620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4617b"/>
                </a:solidFill>
                <a:latin typeface="Times New Roman"/>
              </a:rPr>
              <a:t>Types of Business Plan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" name="Rectangle 3"/>
          <p:cNvSpPr/>
          <p:nvPr/>
        </p:nvSpPr>
        <p:spPr>
          <a:xfrm>
            <a:off x="836640" y="2209680"/>
            <a:ext cx="7397640" cy="313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en-US" sz="3200" spc="-1" strike="noStrike">
                <a:solidFill>
                  <a:srgbClr val="114ffb"/>
                </a:solidFill>
                <a:latin typeface="Times New Roman"/>
              </a:rPr>
              <a:t>The Full Business Plan</a:t>
            </a:r>
            <a:r>
              <a:rPr b="0" lang="en-US" sz="3200" spc="-1" strike="noStrike">
                <a:solidFill>
                  <a:srgbClr val="114ffb"/>
                </a:solidFill>
                <a:latin typeface="Times New Roman"/>
              </a:rPr>
              <a:t>: </a:t>
            </a:r>
            <a:r>
              <a:rPr b="0" lang="en-US" sz="3200" spc="-1" strike="noStrike">
                <a:solidFill>
                  <a:srgbClr val="114ff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114ff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5-40 p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fo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eking a substantial amount of finan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oking for a Strategic Partn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2"/>
          <p:cNvSpPr/>
          <p:nvPr/>
        </p:nvSpPr>
        <p:spPr>
          <a:xfrm>
            <a:off x="774720" y="568440"/>
            <a:ext cx="8369280" cy="8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4617b"/>
                </a:solidFill>
                <a:latin typeface="Times New Roman"/>
              </a:rPr>
              <a:t>Types of Business Plan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Rectangle 3"/>
          <p:cNvSpPr/>
          <p:nvPr/>
        </p:nvSpPr>
        <p:spPr>
          <a:xfrm>
            <a:off x="662760" y="1981080"/>
            <a:ext cx="7382520" cy="313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en-US" sz="3200" spc="-1" strike="noStrike">
                <a:solidFill>
                  <a:srgbClr val="114ffb"/>
                </a:solidFill>
                <a:latin typeface="Times New Roman"/>
              </a:rPr>
              <a:t>The Operational Plan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0+ p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fo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lex, rapidly growing compan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 of an annual planning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2"/>
          <p:cNvSpPr/>
          <p:nvPr/>
        </p:nvSpPr>
        <p:spPr>
          <a:xfrm>
            <a:off x="1066680" y="465120"/>
            <a:ext cx="8077320" cy="9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4617b"/>
                </a:solidFill>
                <a:latin typeface="Times New Roman"/>
              </a:rPr>
              <a:t>Key Elements of a Business Plan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" name="Rectangle 3"/>
          <p:cNvSpPr/>
          <p:nvPr/>
        </p:nvSpPr>
        <p:spPr>
          <a:xfrm>
            <a:off x="1374840" y="2362320"/>
            <a:ext cx="72356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4617b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economically viable product or service with attractive market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4617b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established attack plan that can be replicate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4617b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seasoned management team that has demonstrated it can carry out the attack pla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5dfd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5dfd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8" dur="1" fill="hold"/>
                                  <p:tgtEl>
                                    <p:spTgt spid="22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5dfd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08T15:58:27Z</dcterms:created>
  <dc:creator>Walter S. Good</dc:creator>
  <dc:description/>
  <dc:language>en-US</dc:language>
  <cp:lastModifiedBy>paul.tilley</cp:lastModifiedBy>
  <cp:lastPrinted>2002-03-05T04:42:41Z</cp:lastPrinted>
  <dcterms:modified xsi:type="dcterms:W3CDTF">2011-04-25T17:54:04Z</dcterms:modified>
  <cp:revision>14</cp:revision>
  <dc:subject/>
  <dc:title>Entrepreneurship and Business Planning</dc:title>
</cp:coreProperties>
</file>